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4F98-A044-44DF-8E0F-5B343AD06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F632-0B89-4671-BF19-DFFC5D53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2CA8-BD58-4A90-AD04-335C142B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583D-E1FB-4277-A403-0C9CBA7D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D71D-F68A-4E8F-B06F-F14B2DDD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3812-684B-48B7-A08B-4C76FD4B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ACFB-FECC-4493-B38F-77EC5EF4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405F-3137-47D6-A2D8-7D43A509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6199-BCCA-40A1-BEEF-43E1252E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96E6-E223-4DD9-B845-2ABE45B7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D1B7-CE77-4914-912A-401814C7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4D14-A70C-4888-BA0B-40A9F159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3654-ADDF-45C3-8ACD-F6021A77C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65 Tam, kde v B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m men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m, kde v Božom me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nie vždy vďaky hl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ľud Boží ver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ykupuje č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eriaci tam tvori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evný bratský kru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rdcia láskou hor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je Boží Du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m, kde láska večn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áva silu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údrosť nekonečn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tavia v nás svoj chr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ánovi kde chvál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nejú v každý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adosť, pokoj stál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bl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uje nás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Tam, kde všetky túžb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letia k nebes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radosť z vernej služb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cestu kráti ná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priek bojom, stra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pred vždy ide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 novej večnej vla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 Pánom dôjdem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6:07:51Z</dcterms:modified>
  <cp:revision>22</cp:revision>
  <dc:subject/>
  <dc:title>Je veľký náš Pán, on slávy je Kráľ Nech do všetkých strán  spev vrúcnych znie chvál.</dc:title>
</cp:coreProperties>
</file>